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941-C593-442F-9482-B5F9D3ED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F0F-AA3A-4095-9781-F6F5D37C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80A-6C95-450D-A018-B5A1A4BD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D02-3694-406D-BA02-07E01408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E7B-5F69-4DC7-B0FE-2CE05C0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9CD-61FF-4D3B-8EDE-F837359B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DA9-6F6E-4F1E-9B9C-85343BEE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B6-671B-4878-BAC8-AEF88105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CA4-CE34-4CCB-BBC9-595030A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465-E248-43DB-ADC2-1FA2BFC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89E-CAF6-4731-939B-D210A8E7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BFE-5BAC-4BCB-95CC-35BE4E41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E7BE-E670-44F1-8A71-3531E49F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1798560" cy="15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04000" y="2276640"/>
            <a:ext cx="208908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84360" y="2205000"/>
            <a:ext cx="1944720" cy="156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5280" y="2060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04000" y="549360"/>
            <a:ext cx="1943280" cy="145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549360"/>
            <a:ext cx="2016000" cy="132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340000" y="33336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84360" y="260280"/>
            <a:ext cx="107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620640"/>
            <a:ext cx="864216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as / I us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n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efinite end- it could still be go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infin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what are the 3 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what do they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think of what Buzz would s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remove the –ar / -er /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 the appropriate 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6765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ar verbs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(the Swedish end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1" lang="en-GB" sz="4400" spc="-1" strike="noStrike" u="sng">
                <a:solidFill>
                  <a:srgbClr val="fc230c"/>
                </a:solidFill>
                <a:uFillTx/>
                <a:latin typeface="Comic Sans MS"/>
              </a:rPr>
              <a:t>á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 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é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s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 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í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s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Comic Sans MS"/>
              </a:rPr>
              <a:t>i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 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veía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c230c"/>
                </a:solidFill>
                <a:latin typeface="Arial"/>
              </a:rPr>
              <a:t> ve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do we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king about what we did or  used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6450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66"/>
                </a:solidFill>
                <a:latin typeface="Comic Sans MS"/>
              </a:rPr>
              <a:t>Cuando era más joven, comía muchos caramelos y comida basu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talk about an action that was going on when something else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314172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66"/>
                </a:solidFill>
                <a:latin typeface="Comic Sans MS"/>
              </a:rPr>
              <a:t>Tomaba mi desayuno cuando mi hermana vomit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549360"/>
            <a:ext cx="8569080" cy="41324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tenía siete año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comía mucho más comida y no solía comer muchas verduras porque pensaba que eran asquerosas. No obstante, jugaba al fútbol probablemente tres veces por semana, así no era muy gordo! Así, comía muchas hamburguesas, salchichas y bocadillos de jamón, aunque mi favorito era, como hoy en día el pollo asado con patatas asadas. En mi opinión no era una dieta muy s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56908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ás joven, y tenía siete años, comía mucho más comida y no solía* comer muchas verduras porque pensaba que eran asquerosas. No obstante, jugaba al fútbol probablemente tres veces por semana, así no era muy gordo! Así*, comía muchas hamburguesas, salchichas y bocadillos de jamón, aunque mi favorito era, como hoy en día el pollo asado con patatas asadas. En mi opinión no era una dieta muy s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solía = I usually used to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así = So / as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557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food vo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vise describing your eating ha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read a text to find out about the origins of the tapas cus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learn how to describe something that used to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translate a text describing what a 7year old used to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ch of these English word is likely to 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EY / EASIEST word to find in Span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of paprika smoked sa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used to cover the small glasses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The goal of this custom was to wake up the appetite and th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tapa was born due to an illness of the Spanish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to avoid that people got too d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the majority of people didn’t have enoug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it is more probabl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the need of farmers and workers to 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692280"/>
            <a:ext cx="7848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lonchas de choriz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n) que se tapaban los chatos de v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inalidad de esta costumbre era despertar el apetito y la 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pa nació a causa de una enfermedad del Rey españ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vitar que se emborrachara demasi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yoría de personas no tenían bastante din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más probable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necesidad de agricultores y trabajadores de c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989000"/>
            <a:ext cx="8569080" cy="3050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1 colour, highlight verbs which end in –aba / -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different colour, highlight verbs which end in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 / - í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word “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discuss in pairs what these words might mean- try to think back to the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590920"/>
            <a:ext cx="8543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alking abou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at you used to 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2:58:48Z</dcterms:created>
  <dc:creator>Owner1</dc:creator>
  <dc:description/>
  <dc:language>en-US</dc:language>
  <cp:lastModifiedBy>Owner1</cp:lastModifiedBy>
  <dcterms:modified xsi:type="dcterms:W3CDTF">2008-11-17T16:40:35Z</dcterms:modified>
  <cp:revision>3</cp:revision>
  <dc:subject/>
  <dc:title>Slide 1</dc:title>
</cp:coreProperties>
</file>